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F78E-1E5B-42CE-97C6-E8CBD7EAAA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655D-E047-43F5-8FFE-CE9124305F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A79-4AFB-414C-99F4-BFC84CDD9D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6250-9003-425B-BA3F-F95F296FEE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AFC-B842-4C54-9A61-366F3714D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F93C-CE63-4ED1-8B09-80D4B5A4F5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60B-6729-4D62-A1E2-21C27D346A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F25C-8F0F-4D74-B191-92A5A570E7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245E-4EDF-420B-B4E4-B3DBDE5B8F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159D-0970-41BA-82EC-B6C7256C3E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D9E-D0B0-4DDC-B69D-FE84764A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AE1-AAEC-48EF-898B-ADACBC30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EAE-ABF7-4882-AAE8-81285477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C26-DBDE-4424-A9BD-46FC3CD4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AEE-D74B-42E1-BB24-5C1B540C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5B4-BE5A-4148-8AE5-CDCBAA77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F57-FC26-40D6-A737-34E8BF3E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DA3-9020-46F6-B50A-AC905084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B68-57A7-42AA-AA6B-322DA09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E49-A0D1-42C9-9479-4A9F59A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230-18A4-46CB-87D5-6993E92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81E-22D5-405D-B7CF-BD5E0121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ABC-C12D-4129-9FBE-514713FAE2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lassonde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jlassond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13564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Groupe d’entraide aux personnes francophones LGBTQI nouvellement arrivées au Canada de FrancoQu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47920" y="4572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Me Julie Lassonde, animatrice bénévole du gr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jlassonde.co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904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7 octobre 2012: Réflexion stratégique de FrancoQu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s-groupe sur les minorités dans la minorité et sur la justi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 réunions en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aluation du groupe effectuée en août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nctionnement du gro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fid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ou 6 réunions en personne par 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boursement de tokens, nourriture et boissons quand c’es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nimatrice bénév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ou une membre bénévole du conseil d’administratio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ersonnes participantes s’entraident entre les ré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i participe au grou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re 4 et 9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sonnes LGBTQI et all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’obligation de s’identifier sur le plan de l’orientation sex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emmes et ho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jorité de personnes africaines nouvellement arrivées au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m’a aidée à m’exprimer, à être plus à l’aise. Ça a soulevé un poids que je portais. Ça m’a donné un soutien moral et psychologiqu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Ça m’a donné du courage. J’ai vécu beaucoup d’émotions. J’en ai appris sur différents pays. Je me sens maintenant à l’aise de parler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’ai senti une différence dans mon bien-être avant d’avoir participé au groupe et aprè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Nous sommes là pour les autres et pour soi, peu importe si les nouvelles sont bonnes ou mauvaises sur le plan de l’immigration et du statut de personne réfugié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accepte toutes les couleur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e suis en situation de stress constant et ça me soulage à chaque fois que je viens à une réunion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a un impact limité sur les démarches juridiques de ses me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ttre de soutie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émoignage de me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age d’expériences et apprentissage à travers les 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fournir de conseils jurid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donner d’aide finan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ugmenter le nombre de personnes participantes sans perdre la qualité de l’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rganiser d’autres so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vrir un café LGBT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echerche de financement de FQ auprès du ministère des affaires civiques et de l’immigration de l’Ontario en 2013. Y aura-t-il des sui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rc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 Lass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ocate, chercheure &amp; traduc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tréal 514-839-8727 / Toronto 416-837-8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@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oQu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ww.francoqueer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7:22:55Z</dcterms:created>
  <dc:creator>Julie Lassonde</dc:creator>
  <dc:description/>
  <dc:language>en-US</dc:language>
  <cp:lastModifiedBy>ltshiswaka</cp:lastModifiedBy>
  <cp:lastPrinted>2013-10-03T23:44:44Z</cp:lastPrinted>
  <dcterms:modified xsi:type="dcterms:W3CDTF">2013-11-12T18:55:13Z</dcterms:modified>
  <cp:revision>530</cp:revision>
  <dc:subject/>
  <dc:title>Diapositive 1</dc:title>
</cp:coreProperties>
</file>